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39E72-84A1-4141-9D92-9E2ED96B99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AF35-6411-4DEB-8686-69DBEFE9C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25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9C3C6-8DFA-423D-A4F4-280FB31CE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150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78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150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78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67BC-89C1-4F24-8504-10565A29B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81160" y="12348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194A-B34D-4F71-9965-FAA278104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25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25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50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7880" y="137160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50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7880" y="3958560"/>
            <a:ext cx="2821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5F368-9CA9-4E53-A4C9-83901CCB7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EABD-E565-4A6D-9ED0-47C961F47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1C780-3683-4C8F-AC9F-D7DC551D4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81160" y="12348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7ABAD-8960-4750-B9B3-CCFFAFA38A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3B35-0E32-443B-9142-600A61F1A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2560" y="395856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697D-18EC-40EA-AFB7-5175159EE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2560" y="1371600"/>
            <a:ext cx="42760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763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F88F-D0D7-490F-BB43-CFB7C064D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3680" y="68400"/>
            <a:ext cx="8381880" cy="1141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397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10A4-E502-49D2-8DA7-C215B8430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8600" y="639432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200240" y="64008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93680" y="422280"/>
            <a:ext cx="8381880" cy="1141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57920" y="380880"/>
            <a:ext cx="606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-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2200"/>
            </a:br>
            <a:r>
              <a:rPr b="0" i="1" lang="en-US" sz="2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1160" y="1234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licer3 Launch and Pack:</a:t>
            </a:r>
            <a:br>
              <a:rPr sz="30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tting up an efficient and workable deployment solution for Slicer3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13716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160020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Steve Pieper, Will Schroeder, Sebastien Barre, Jim Miller, Bill Lorensen, Andy Cedilni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1484280"/>
            <a:ext cx="472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Define details of slicer3’s launcher (order from the current cha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Issues: quick startup, cross-platform maintainability, finding modules, error detection/feedback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Options: static builds, C++ launcher, Tcl Launcher, BAT/Shell Script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9720" y="117000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lan/Expected Challenges/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680" y="117648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240" y="3747960"/>
            <a:ext cx="41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complished by end of Programming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18240" y="3733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4221000"/>
            <a:ext cx="4724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Meeting took place on Friday – everyone was in attend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Consensu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cannot build static since plugins may require any/all of vtk/itk/sl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dynamic builds require launcher to find shared libr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launcher has other benefi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quick splash scre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catch errors/cras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580000" y="4076640"/>
            <a:ext cx="3240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Pla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a starpack solution like slicer2 uses will be</a:t>
            </a:r>
            <a:br>
              <a:rPr sz="1400"/>
            </a:b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put in place (Ste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71175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</a:t>
            </a: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this is a fully-static executable that can </a:t>
            </a:r>
            <a:br>
              <a:rPr sz="1400"/>
            </a:b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 be programmed in tcl/tk to set up the </a:t>
            </a:r>
            <a:br>
              <a:rPr sz="1400"/>
            </a:b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 environment and launch/monitor</a:t>
            </a:r>
            <a:br>
              <a:rPr sz="1400"/>
            </a:br>
            <a:r>
              <a:rPr b="0" lang="en-US" sz="1400" spc="-1" strike="noStrike">
                <a:solidFill>
                  <a:srgbClr val="371175"/>
                </a:solidFill>
                <a:latin typeface="Arial Narrow"/>
              </a:rPr>
              <a:t>  the Slicer3-real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4:50:34Z</dcterms:created>
  <dc:creator>Vincent A. Magnotta</dc:creator>
  <dc:description/>
  <dc:language>en-US</dc:language>
  <cp:lastModifiedBy> Steve Pieper</cp:lastModifiedBy>
  <cp:lastPrinted>2009-04-22T19:24:48Z</cp:lastPrinted>
  <dcterms:modified xsi:type="dcterms:W3CDTF">2007-01-22T16:00:58Z</dcterms:modified>
  <cp:revision>4</cp:revision>
  <dc:subject/>
  <dc:title>Bone Meshing: Develop meshing algorithms suitable for surface contact analysis. Integrate these algorithms and required user interaction into Slicer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